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8ACE-1F22-49AF-9458-6F62F1F3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DD4-A035-4EB4-B78B-A64CCB15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DA4-0B01-4C4D-B301-3DD54856F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CC5A-97D5-4636-A063-87D960AE6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ED0-872A-4511-B114-7EFB8821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E89-45AE-4B18-989F-B0D73A95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504-5AFB-4819-B254-E8E09635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A85-B7FA-4382-8FA6-87C76B23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3288-1752-49C3-B530-808F0158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FF4-3F5D-44BC-80EF-08B05E41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2FF3-22F7-46A1-AB68-3F776D3C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56C1-9A73-4D72-9638-FC9B21F9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BC84-62F8-4306-AA1C-719A4EEF4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Subway"/>
              </a:rPr>
              <a:t>Courts at Wor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http://www.econ.ucsb.edu/~tedb/Journals/gavel.jpg"/>
          <p:cNvPicPr/>
          <p:nvPr/>
        </p:nvPicPr>
        <p:blipFill>
          <a:blip r:embed="rId1"/>
          <a:stretch/>
        </p:blipFill>
        <p:spPr>
          <a:xfrm>
            <a:off x="2743200" y="3276720"/>
            <a:ext cx="3838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Verd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erdi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final decision of th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urt may ru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l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gui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jury trial, all jurors must agree to find someone guilty.  If they cannot agree it is a “hung jury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uilty decision can only be announced if the prosecutor has proven his case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beyond a reasonable doub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http://cache.diomedia.com/170/01/A4/Z1/01A4-Z1TN.jpg"/>
          <p:cNvPicPr/>
          <p:nvPr/>
        </p:nvPicPr>
        <p:blipFill>
          <a:blip r:embed="rId1"/>
          <a:stretch/>
        </p:blipFill>
        <p:spPr>
          <a:xfrm>
            <a:off x="1395360" y="2712960"/>
            <a:ext cx="27957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UILT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4724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guilty verdict is reached, the jury usually recommends a pun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fficial punishment is given out by the judge at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sentencing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defendant maintains his innocence, he can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a higher court.  The higher court can re-consider his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re is a not guilty verdict, the government may NOT appeal.  That would be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uble jeopard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, banned by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Amend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http://latimesblogs.latimes.com/lanow/images/2008/06/26/the_jury_has_spoken.jpg"/>
          <p:cNvPicPr/>
          <p:nvPr/>
        </p:nvPicPr>
        <p:blipFill>
          <a:blip r:embed="rId1"/>
          <a:stretch/>
        </p:blipFill>
        <p:spPr>
          <a:xfrm>
            <a:off x="5076720" y="2641680"/>
            <a:ext cx="344664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venile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2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minal cases involving juveniles are handled diffe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veniles are those under age eigh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ult c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 court’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al is to punis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gui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venile ca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 court’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al is to rehabilit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or change the behavior of the guilty chi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77760" y="-83016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http://justgetthere.us/blog/uploads/juvenile-court.jpg"/>
          <p:cNvPicPr/>
          <p:nvPr/>
        </p:nvPicPr>
        <p:blipFill>
          <a:blip r:embed="rId1"/>
          <a:stretch/>
        </p:blipFill>
        <p:spPr>
          <a:xfrm>
            <a:off x="419040" y="2133720"/>
            <a:ext cx="45784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ed as an ad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However, if a juvenile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commits a crime that would be a felony for an adult, they can be tried as an adult.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 Virginia anyone who is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fourteen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or over can be tried as an adul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y can even receive the death sentence if the crime is terrible enough and they are at least a teenager, although it is uncommon for those below age sixtee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Other than Texas, Virginia has executed more juveniles than any state since 197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http://westseattleblog.com/blog/wp-content/uploads/2009/04/hailey3.jpg"/>
          <p:cNvPicPr/>
          <p:nvPr/>
        </p:nvPicPr>
        <p:blipFill>
          <a:blip r:embed="rId1"/>
          <a:stretch/>
        </p:blipFill>
        <p:spPr>
          <a:xfrm>
            <a:off x="4970520" y="2171880"/>
            <a:ext cx="34002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venile He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19720" y="1371240"/>
            <a:ext cx="4572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veniles always receiv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ench tr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Juries are never used in Juvenile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juvenile’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ents must be kept inform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all procee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ases are held in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Juvenile and Domestic Relations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cases are held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iv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no one is allowed in the court who is not part of the case.  The result is also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rds are kept private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http://www.explorebaltimorecounty.com/photographs/2318_ee58e284f2b1fa09264ed826449ec1b2_center.jpg"/>
          <p:cNvPicPr/>
          <p:nvPr/>
        </p:nvPicPr>
        <p:blipFill>
          <a:blip r:embed="rId1"/>
          <a:stretch/>
        </p:blipFill>
        <p:spPr>
          <a:xfrm>
            <a:off x="1143000" y="2362320"/>
            <a:ext cx="3143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venile Punis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udges have greater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latitude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in sentencing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meaning they can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cide the punishment to fit the individua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s well as the cr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not judged to be a threat, they can be sentenced to community service, counseling, probation, or other punis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Juveniles can be sentenced to stay in a detention home if they are judged to be a danger to themselves or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y can be held there until age 21 if necessa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http://lawanddisorder.org/wp-content/uploads/juvenile.jpg"/>
          <p:cNvPicPr/>
          <p:nvPr/>
        </p:nvPicPr>
        <p:blipFill>
          <a:blip r:embed="rId1"/>
          <a:stretch/>
        </p:blipFill>
        <p:spPr>
          <a:xfrm>
            <a:off x="4800600" y="2666880"/>
            <a:ext cx="40734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vil cases are conducted somewhat differently from crimina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ead of a trial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ivil court proceedings are known as 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aws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 who files the lawsu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known as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inti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“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fend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is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 being s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GFC1444"/>
          <p:cNvPicPr/>
          <p:nvPr/>
        </p:nvPicPr>
        <p:blipFill>
          <a:blip r:embed="rId1"/>
          <a:stretch/>
        </p:blipFill>
        <p:spPr>
          <a:xfrm>
            <a:off x="990720" y="234324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r day(s) in c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952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ivil lawsuits may have a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judge or jury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decide the verdict.  This is guaranteed by the Seventh Amendment.  The defendant gets to choo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re are witnesses and evidence, just like a criminal tr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winner is decided by a “preponderance of evidence”; “beyond a reasonable doubt” is not necessary in civil matte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f the plaintiff wins, </a:t>
            </a: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damage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are award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Either side can </a:t>
            </a:r>
            <a:r>
              <a:rPr b="1" i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appeal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the decision to a higher court if not satisfi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http://tlt.its.psu.edu/about/news/files/11.3.JPG/image_preview"/>
          <p:cNvPicPr/>
          <p:nvPr/>
        </p:nvPicPr>
        <p:blipFill>
          <a:blip r:embed="rId1"/>
          <a:stretch/>
        </p:blipFill>
        <p:spPr>
          <a:xfrm>
            <a:off x="4780080" y="2720880"/>
            <a:ext cx="390672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Constitution protects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1936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hatever type of case, the </a:t>
            </a: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Bill of Rights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of the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Constitution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guarantees defendants some basic protecti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o unreasonable searches (4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o excessive bail (8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peedy trial guaranteed (6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rial by jury guaranteed (6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, 7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o Self-Incrimination (5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ight to an attorney (6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o Double Jeopardy (5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No Cruel and unusual (8</a:t>
            </a:r>
            <a:r>
              <a:rPr b="0" lang="en-US" sz="2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) punish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4" descr="the bill of rights. &#10;fotosearch - search &#10;stock photos, &#10;pictures, images, &#10;and photo clipart"/>
          <p:cNvPicPr/>
          <p:nvPr/>
        </p:nvPicPr>
        <p:blipFill>
          <a:blip r:embed="rId1"/>
          <a:stretch/>
        </p:blipFill>
        <p:spPr>
          <a:xfrm>
            <a:off x="380880" y="2057400"/>
            <a:ext cx="403884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minal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4343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n adult criminal case has many ste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t usually is not completed in one day, especially felony cas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first step is the </a:t>
            </a:r>
            <a:r>
              <a:rPr b="1" i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arrest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when you are taken into police custody on suspicion of a cri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f the crime is minor, instead of arrest, a </a:t>
            </a:r>
            <a:r>
              <a:rPr b="1" i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summons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is issued.  It orders either a fine to be paid or a court dat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http://humarashid.files.wordpress.com/2010/02/rove_arrested.jpg"/>
          <p:cNvPicPr/>
          <p:nvPr/>
        </p:nvPicPr>
        <p:blipFill>
          <a:blip r:embed="rId1"/>
          <a:stretch/>
        </p:blipFill>
        <p:spPr>
          <a:xfrm>
            <a:off x="961920" y="2209680"/>
            <a:ext cx="3378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ll it to the ju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Soon after the arrest, the police must present the person arrested before a </a:t>
            </a:r>
            <a:r>
              <a:rPr b="1" i="1" lang="en-US" sz="2300" spc="-1" strike="noStrike">
                <a:solidFill>
                  <a:srgbClr val="ffffff"/>
                </a:solidFill>
                <a:latin typeface="Arial"/>
              </a:rPr>
              <a:t>magistrate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or justice of the peace.  This is called a </a:t>
            </a:r>
            <a:r>
              <a:rPr b="1" i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writ of habeas corpu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i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 Magistrate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is an officer of the court who handles the lesser work of jud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e police must show </a:t>
            </a:r>
            <a:r>
              <a:rPr b="1" i="1" lang="en-US" sz="2300" spc="-1" strike="noStrike" u="sng">
                <a:solidFill>
                  <a:srgbClr val="ffffff"/>
                </a:solidFill>
                <a:uFillTx/>
                <a:latin typeface="Arial"/>
              </a:rPr>
              <a:t>probable cause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or good reason to suspect that you could be guilty of the crim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All suspects are considered 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“innocent until proven guilty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9" descr="http://www.memphisinjurylawyerblog.com/Judge%20using%20Gavel.jpg"/>
          <p:cNvPicPr/>
          <p:nvPr/>
        </p:nvPicPr>
        <p:blipFill>
          <a:blip r:embed="rId1"/>
          <a:stretch/>
        </p:blipFill>
        <p:spPr>
          <a:xfrm>
            <a:off x="4800600" y="2362320"/>
            <a:ext cx="36162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to do with you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19720" y="12952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magistrate can make multiple decisions about yo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f he judges there was not probable cause, he can let you 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f he believes there was probable cause, he has a few op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f the charge is not too serious or you have a clean record, he could set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ffffff"/>
                </a:solidFill>
                <a:latin typeface="Arial"/>
              </a:rPr>
              <a:t>bail</a:t>
            </a:r>
            <a:r>
              <a:rPr b="1" i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or yo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Bail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is an amount of money you pay to get out of jail until your trial, you get it back when you show up for the court d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The amount of 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bail must fit the crime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.  This is guaranteed by the </a:t>
            </a:r>
            <a:r>
              <a:rPr b="1" lang="en-US" sz="2100" spc="-1" strike="noStrike" u="sng">
                <a:solidFill>
                  <a:srgbClr val="ffffff"/>
                </a:solidFill>
                <a:uFillTx/>
                <a:latin typeface="Arial"/>
              </a:rPr>
              <a:t>Eighth Amendment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http://t2.gstatic.com/images?q=tbn:ANd9GcT4IA5YzZxEI1SSdThsw_f2pHTaa9uUON0vEjCkyy-cjavQkSdkaKHFwZth"/>
          <p:cNvPicPr/>
          <p:nvPr/>
        </p:nvPicPr>
        <p:blipFill>
          <a:blip r:embed="rId1"/>
          <a:stretch/>
        </p:blipFill>
        <p:spPr>
          <a:xfrm>
            <a:off x="1523880" y="2286000"/>
            <a:ext cx="25369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ock ‘em u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50292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you cannot afford bail, you can use a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bail bondsma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.  You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y him 10% of your bail to get out, but you don’t get it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you don’t show up for your trial, he’ll come find you, and he won’t be happ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you are charged with a very serious felony or you have a record of not showing up for court, you can be held in jail until your t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s is always the case with a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apital crim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ne which carries the death sent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ever he decides, he will also set a date for you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arra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http://media-cdn.tripadvisor.com/media/photo-s/00/11/50/29/inside-the-jail.jpg"/>
          <p:cNvPicPr/>
          <p:nvPr/>
        </p:nvPicPr>
        <p:blipFill>
          <a:blip r:embed="rId1"/>
          <a:stretch/>
        </p:blipFill>
        <p:spPr>
          <a:xfrm>
            <a:off x="5334120" y="1752480"/>
            <a:ext cx="3592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ra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 an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arraignment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the person accused is brought before a judge and enters their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pl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ple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s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claration of guilt or innocence by the acc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judge also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ts a court dat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r the trial.  There must be a “speedy trial” date as guaranteed by the 6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Amend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ometimes a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plea bargai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will be arranged. 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cused agrees to plead guilty in order to receive a lesser punish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http://media.marconews.com/media/img/photos/2010/06/18/100618NS-GK-GORDONDEATH310_t607.jpg"/>
          <p:cNvPicPr/>
          <p:nvPr/>
        </p:nvPicPr>
        <p:blipFill>
          <a:blip r:embed="rId1"/>
          <a:stretch/>
        </p:blipFill>
        <p:spPr>
          <a:xfrm>
            <a:off x="777960" y="2324160"/>
            <a:ext cx="3854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trial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decides the guilt or innocence of the acc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 a trial, the person accused of a crime is known as the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defend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defendant’s lawyer is known as the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defense attorn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prosecuto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s the lawyer for the government who attempts to prove the defendant guil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n state trials the prosecutor is called the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Commonwealth Attorne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in federal trials he is known a the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U.S. Attorne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www4.pictures.gi.zimbio.com/Nai+Yin+Xue+Appears+Auckland+High+Court+Trial+OhqKS7jFfZ1l.jpg"/>
          <p:cNvPicPr/>
          <p:nvPr/>
        </p:nvPicPr>
        <p:blipFill>
          <a:blip r:embed="rId1"/>
          <a:stretch/>
        </p:blipFill>
        <p:spPr>
          <a:xfrm>
            <a:off x="4724280" y="2209680"/>
            <a:ext cx="3921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ry Any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jail time is a possible punishment, a defendant has the choice of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jury tr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r 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ench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ench tr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the judge decides guilt or inno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a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jury tr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 group of your peers dec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 jury is used, they are selected from a group of citizens randomly cho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the prosecutor and defense attorney try to pick a jury that will fav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http://www.pastfoundation.org/2008Forensics/Updates/July03/Jury%20duty%20can%20be%20long,%20intense,%20and%20confusing,%20even%20if%20you%20know%20and%20understand%20what%20is%20being%20said.JPG"/>
          <p:cNvPicPr/>
          <p:nvPr/>
        </p:nvPicPr>
        <p:blipFill>
          <a:blip r:embed="rId1"/>
          <a:stretch/>
        </p:blipFill>
        <p:spPr>
          <a:xfrm>
            <a:off x="351000" y="1981080"/>
            <a:ext cx="40654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ring the 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952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oth sides will call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witnesse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eople who have information to tell about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f necessary, a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subpoena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can be issued, a court order forcing someone to appear in court.  Only the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efendant cannot be forced to testify (Fifth Amend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itnesses give sworn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testimon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in which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y promise to tell the information about what they know under penalty of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prosecutor and defense attorney also present 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Arial"/>
              </a:rPr>
              <a:t>evidenc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tems and documents which are used to prove their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http://www.lawdragon.com/ldimages/lawyer%20and%20jury.jpg"/>
          <p:cNvPicPr/>
          <p:nvPr/>
        </p:nvPicPr>
        <p:blipFill>
          <a:blip r:embed="rId1"/>
          <a:stretch/>
        </p:blipFill>
        <p:spPr>
          <a:xfrm>
            <a:off x="4800600" y="1981080"/>
            <a:ext cx="4160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0T21:09:07Z</dcterms:created>
  <dc:creator>Phillip McGinnis</dc:creator>
  <dc:description/>
  <dc:language>en-US</dc:language>
  <cp:lastModifiedBy>Phillip McGinnis</cp:lastModifiedBy>
  <dcterms:modified xsi:type="dcterms:W3CDTF">2011-02-23T20:56:38Z</dcterms:modified>
  <cp:revision>59</cp:revision>
  <dc:subject/>
  <dc:title>Slide 1</dc:title>
</cp:coreProperties>
</file>